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166-4D55-45BD-BB8B-D2306E09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0D5-BA63-4F47-B389-E77637D1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2F4-12BA-4D43-81CF-C18EFCE2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7A4-5B62-4A8A-A60A-73F892EC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8136-54E6-4FC9-8022-5609B697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2C1D-2B8A-4A9B-88CD-254C42DC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DDEF-0FBE-4D59-90C8-13D8B6C0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179C-8440-4777-B93B-2F58BBFD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502D-A205-4C0E-B510-0003762A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205C-1823-4755-9AD2-51CE12EE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9602-2CF7-4314-ACAF-8B1F3C8C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A2F-1164-4748-B8CD-36C52D50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F972-150B-4E08-B3CE-B3102C20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946F-7183-4F30-BBA4-5BFE6026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5056-6478-423B-B2BF-05FB31A1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300C-DDDB-417B-A6E7-28081B1C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B2C0-8D77-459B-B85E-E26C1F42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263-4A41-4119-AA71-5A127EEE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840-6D82-4D01-B0BB-075C282B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B91-9C6A-42A1-8BD9-58E9BE19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EAF-D667-4E05-9AF7-21EF2014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780-73BB-47CC-95F4-D72C4054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FD6-6045-4EBC-940A-D7035AFA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C6B-5729-47EA-A47E-16C14BD7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66A9-D1D7-4190-A800-61D8A71088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F077-13A9-4065-9A98-E724D45E30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he Divine Comedy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te Alighier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ivine Come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itten between 1308 and 132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ntral epic poem of Italian literat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vided into three par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erno (Hel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rgatorio (Purgator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adiso (Paradis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the journey of the soul toward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r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vided into 9 circles of suffe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Circle – Limb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baptized and virtuous pag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bad people, but no hope for reconcili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Circle – Lu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uls blown about by violent st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rno (cont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Circle – Glutt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ose who loved f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Circle – Avaricious and Prodig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varicious – hoarded posses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igal – squandered posses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Fifth Circle – Wrathfu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n’t figh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rno (cont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Circle – Heretic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jection of beliefs of a religious bo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Circle – Viol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ken into three r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er Ring – violent against people an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Ring – Suic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Ring – violent against God, violent against nature, violent against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rno (cont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ighth Circle – Fraudul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uilty of a deliberate ev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nth Circle – Traito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ose who betray someone in a special relations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gato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of a climb up a mountain where there is much spiritual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9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adi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aven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of Dante’s vision of heav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18:36:02Z</dcterms:created>
  <dc:creator>jvanengen</dc:creator>
  <dc:description/>
  <dc:language>en-US</dc:language>
  <cp:lastModifiedBy>jvanengen</cp:lastModifiedBy>
  <dcterms:modified xsi:type="dcterms:W3CDTF">2009-08-16T19:25:52Z</dcterms:modified>
  <cp:revision>5</cp:revision>
  <dc:subject/>
  <dc:title>The Divine Comedy</dc:title>
</cp:coreProperties>
</file>